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F56C-76F6-4B9D-8026-FA3E2ACB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8824-D84F-4AAA-82EC-4ABC3172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966A-A6ED-4587-B36E-D0681774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1440-D94D-4DF6-B9B1-283FDB10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5C4A-1F57-4249-B94B-36307DEC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9D29-0B6F-46C4-9430-9E0B9573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505-69D3-4E1E-AECA-A09D7A1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08E3-6870-46BE-B83F-60CA91DF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DCF2-D546-49AD-A574-04B1FB1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E78-9D7F-42AD-87AD-D811940B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9CE3-29B9-442A-B23C-CD765C2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8E7F-53DA-465F-B007-F4FAB22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C2C-F1FD-4579-9C9C-A6CF1B1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EF5A-8B53-47AC-93C9-F38FB6C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1BDB-5423-4E2A-989C-5FF073A6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6F4-CD18-44F0-800E-0A0D0FAE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EB9-7A44-4E95-8089-2C472372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89FF-1CC2-4CE9-8D91-F7FF914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C0C2-F967-469E-8C04-7600DA66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5F8F-933A-4C27-989A-D7B76624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3ADF-4D44-44C5-8FB3-AC9116AB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B0B0-9E73-4E1A-8F73-60C15BD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9026-EB47-409F-A368-4182F53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82D1-E1F6-4519-847D-A865ABC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D45-26A3-4E30-A8AF-A4241F65E4A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D6DF-E669-4BE7-802D-1D35231980C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716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3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5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Ние да работим за Спас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това заръча сам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ичко зряло е за жет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де са жетварите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в туй велико дел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ки да се отда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 отдавна Господ вик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ще Ми се предаде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работим за наший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близо и далеч към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т страдащи душ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ще нас да утеши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Ние да работим за Спас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, що казва теб и мен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стоите вий тъй праз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през целий дълъг ден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идете, работет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е право, ще ви дам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о вечер останет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дам Аз заплата сам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работим за наший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близо и далеч към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т страдащи душ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ще нас да утеши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ие да работим за Спас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те вий Исусов вик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глух да остане мож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а не даде отклик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туй от нас очакв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сам дава ни мощ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Работете неуморн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де превали нощ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24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работим за наший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близо и далеч към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т страдащи души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ще нас да утеши?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7:38Z</dcterms:modified>
  <cp:revision>169</cp:revision>
  <dc:subject/>
  <dc:title>Slide 1</dc:title>
</cp:coreProperties>
</file>